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8DAE-C161-4490-BE82-507DE0FB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575A-7A1F-4FA7-A9B6-920D5DD3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665-345E-4D94-AA0D-9F32FC2D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691-A570-4D60-98C5-376B74AB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DDA6-EFC9-4AFD-92FA-EC7A4D4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4BF-C8AB-42D0-9610-3024C81E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5850-B9B5-4B18-88AE-D3D13068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316-CCB8-45E1-A49A-FE875A04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3901-6EBA-4698-BAD3-9F2A0BC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607-23F5-4618-B187-24F02856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127-5BA3-4118-86B8-F755EBC3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3AB-1F5F-4550-AB89-8ABC0C46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63B1-7432-4922-8C59-7FE5B8E5B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EAR GRADUAT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8320" y="1579680"/>
            <a:ext cx="3429000" cy="271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62000" y="1600200"/>
            <a:ext cx="2443320" cy="269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5562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hese days are over:) !!!!!!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2819520" y="449568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800600" y="4419360"/>
            <a:ext cx="1447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304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IME TO PARTY!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914400"/>
            <a:ext cx="1828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1. Bring your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651400" cy="1627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196848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51040" y="16686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2. Bri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3886200"/>
            <a:ext cx="2073240" cy="259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27760" y="403056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Oops, I meant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44197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362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76560" cy="3581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69600" y="550800"/>
            <a:ext cx="415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AND HAVE FU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657600" cy="3114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11400" y="322200"/>
            <a:ext cx="67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BUT NOT TOO MUCH FUN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39960" y="4251240"/>
            <a:ext cx="7256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Oooooops, almost forgot the date and addres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Tahoma"/>
              </a:rPr>
              <a:t>December 13, 2002 at 20:00 in</a:t>
            </a: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Budapest,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Eszter utca 2, (District 2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Andras Bartha’s hous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7:46:45Z</dcterms:created>
  <dc:creator>CEU</dc:creator>
  <dc:description/>
  <dc:language>en-US</dc:language>
  <cp:lastModifiedBy>CEU</cp:lastModifiedBy>
  <dcterms:modified xsi:type="dcterms:W3CDTF">2002-12-03T18:13:39Z</dcterms:modified>
  <cp:revision>5</cp:revision>
  <dc:subject/>
  <dc:title>No Slide Title</dc:title>
</cp:coreProperties>
</file>