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21E-2D75-410F-B4DF-825BCD66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A0C-0649-41BF-856B-D140F047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666-2162-4C8C-B2EF-3FD3BB21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7F3-6C69-45E6-AA3D-534D3F9A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146-113B-4BBD-8E6B-EBE1339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253-4D6F-4619-B698-FAF92BDC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08E-5894-4555-AC83-53E7C922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8B3-A5E6-45F7-9909-260E03E7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1E2-E413-4FDC-90D7-27CF827B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51B-F2CA-4F31-AE19-AB47AA9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EDE-D5E6-4B8F-B838-FC36176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A69-CA3B-4131-8315-882D7DB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168-9391-45DF-B4F2-137EC81E9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AR GRADUA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8320" y="1579680"/>
            <a:ext cx="3429000" cy="271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2000" y="1600200"/>
            <a:ext cx="2443320" cy="269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5562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se days are over:) !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819520" y="44956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800600" y="441936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ME TO PARTY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91440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Bring your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651400" cy="162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96848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51040" y="16686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Br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3886200"/>
            <a:ext cx="207324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27760" y="403056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ops, I meant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362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7656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69600" y="550800"/>
            <a:ext cx="415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ND HAVE FU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657600" cy="311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1400" y="3222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UT NOT TOO MUCH FU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9960" y="4251240"/>
            <a:ext cx="7256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Oooooops, almost forgot the date and addres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ahoma"/>
              </a:rPr>
              <a:t>December 13, 2002 at 20:00 in</a:t>
            </a: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Budapest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Eszter utca 2, (District 2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Andras Bartha’s hou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7:46:45Z</dcterms:created>
  <dc:creator>CEU</dc:creator>
  <dc:description/>
  <dc:language>en-US</dc:language>
  <cp:lastModifiedBy>CEU</cp:lastModifiedBy>
  <dcterms:modified xsi:type="dcterms:W3CDTF">2002-12-03T18:13:39Z</dcterms:modified>
  <cp:revision>5</cp:revision>
  <dc:subject/>
  <dc:title>No Slide Title</dc:title>
</cp:coreProperties>
</file>